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20A-62D8-4702-A314-BCDF8C277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75C6-9478-4FE2-A6C1-2ED8E70EF0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F3D2-629C-4881-A66A-6E35A548B9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6C01-201A-4D43-A158-1BC392D482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AF92-B329-4640-98B1-D23596190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EE14-B4F1-4146-8F32-73ACBB2FBA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F8B4-F7DF-4236-9CF0-3B9B88B88A6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071-5EB4-43C8-B463-887231915E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BBED-EECF-4339-A0B6-1ABE388764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4C74-C03B-49E9-ADA5-52287C1D55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796B-6400-4297-B2A2-B4AFE77145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B4C-AF86-4BC8-B4C4-E99C92B3BF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669-8EB1-4392-A29D-650CDA98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7FA-C9DD-4656-ABD1-AE1AE70E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42A-09C9-4870-A1B3-E27D4514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E3C-1414-4B91-B055-28A922AE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1889-6158-44E6-9513-DA5D43C1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4290-B998-4061-AE48-59ACE164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5E45-0F1A-44DF-B907-82873D4D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B982-606F-41B7-8E06-CEDD98CA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459B-3082-4309-985D-E1B2AD6F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8F16-32E5-485C-9AC7-514980F1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1AB-6795-4E4A-AF49-8B88D803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204-54EE-4772-9395-99A8766E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F0B9-5C90-4181-B4F5-94836BDA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726E-5D62-476B-A2E7-71206657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D952-397D-453B-98D6-8EFF690F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69A5-C1E1-427B-A293-4A58C4C1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7B93-AEE0-498D-93B2-34A94705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03D2-13A0-4E17-BF5F-6A3CFD31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5E07-E14F-4A57-BF65-C0C8CF7C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7A13-A9BD-4743-8A12-4CA57920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6DCF-80A4-4C38-AA25-DE615D8B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0D91-AA37-4F18-B281-E225EC2D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4F0-36D6-4090-B5ED-1A4760D8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8083-1EE7-4384-8673-B7045DCD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5FE0-8AC1-40E5-8FCE-00C579CB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8E6D-6C1A-43EB-B225-90479D3D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404C9-AA91-432E-90D3-BEA00E9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3D8D8-223F-4BBA-BCE5-A78C5BE7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85BA-9E81-4F70-A144-F56F2C34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79E2-C21B-42FD-A929-989B8739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94F-A87A-4748-87DF-49BB2576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FB1-4A1A-4B4D-9ECC-0661BCF2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92F-7F55-4091-8964-9270D65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463-204B-48AE-943A-0CF57675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5AB-7F5F-4459-9283-83A69CDE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42E-9CDE-41B8-B34E-4029DC4D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9DD2-E8F8-443B-A58C-0921FDDA34B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DD65-304B-440A-927F-656B0C394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4515-5D18-48F0-A792-1C5FB42D76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C757-7A7C-4FBB-B7A7-D222AFFEF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E797-0056-408E-A36E-9FC8282D34F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6E45-F8DB-49BB-8CE0-760B4B14501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7"/>
          <p:cNvSpPr/>
          <p:nvPr/>
        </p:nvSpPr>
        <p:spPr>
          <a:xfrm>
            <a:off x="468360" y="1130400"/>
            <a:ext cx="8280360" cy="32630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результаты исследования компетенций учителей математики,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ргей Владимирович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нчен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Центра националь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ждународных исследований качества образов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го государственного бюджетного учрежде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едеральный институт оценки качества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826920" y="1131840"/>
            <a:ext cx="756144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уровневой градации (одновременно с модернизацией профессионального стандарта педаг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ханизмов диагностики и профессиональной помощи на основе результатов оценки, в том числе, на основе адресного повышения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методик оценки психолого-педагогических компет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енно-профессиональное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Дальнейши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539640" y="206676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7"/>
          <p:cNvSpPr/>
          <p:nvPr/>
        </p:nvSpPr>
        <p:spPr>
          <a:xfrm>
            <a:off x="250920" y="195120"/>
            <a:ext cx="864216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Источники информации об уровне компетенций учителей.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"/>
          <p:cNvSpPr/>
          <p:nvPr/>
        </p:nvSpPr>
        <p:spPr>
          <a:xfrm>
            <a:off x="495144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135400" y="253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сравнитель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8"/>
          <p:cNvSpPr/>
          <p:nvPr/>
        </p:nvSpPr>
        <p:spPr>
          <a:xfrm>
            <a:off x="207180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451240" y="25351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3079800" y="379872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459240" y="3833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2"/>
          <p:cNvSpPr/>
          <p:nvPr/>
        </p:nvSpPr>
        <p:spPr>
          <a:xfrm>
            <a:off x="106380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442880" y="12319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4"/>
          <p:cNvSpPr/>
          <p:nvPr/>
        </p:nvSpPr>
        <p:spPr>
          <a:xfrm>
            <a:off x="401652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395960" y="12319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6"/>
          <p:cNvSpPr/>
          <p:nvPr/>
        </p:nvSpPr>
        <p:spPr>
          <a:xfrm>
            <a:off x="5940360" y="3798720"/>
            <a:ext cx="237672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105600" y="3808440"/>
            <a:ext cx="20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компетенций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7"/>
          <p:cNvSpPr/>
          <p:nvPr/>
        </p:nvSpPr>
        <p:spPr>
          <a:xfrm>
            <a:off x="250920" y="195120"/>
            <a:ext cx="8642160" cy="794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Разработка модели оценки компетенций учителей. 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частии ассоциаций учителей истории, математики,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1835280" y="130824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214720" y="13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учителя истор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15 г., 6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1835280" y="248616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2041560" y="25210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ое исследование компетенций учителей русского языка и математики (осень 2015 г., 2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1835280" y="3665520"/>
            <a:ext cx="5329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2016000" y="37004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е компетенций учителей русского языка, литературы и математики (весна-осень 2016 г., 20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ценка компетенций как часть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944800" y="2316240"/>
            <a:ext cx="2930400" cy="142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С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855720" y="1382760"/>
            <a:ext cx="208908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ценка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68360" y="268272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867280" y="1190520"/>
            <a:ext cx="25923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профессиональной помощи и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732720" y="2546280"/>
            <a:ext cx="230328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реды профессиональ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55640" y="4032360"/>
            <a:ext cx="20876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стим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6389640" y="4226040"/>
            <a:ext cx="165744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1"/>
          <p:cNvSpPr/>
          <p:nvPr/>
        </p:nvSpPr>
        <p:spPr>
          <a:xfrm>
            <a:off x="2427120" y="2827440"/>
            <a:ext cx="344520" cy="42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право 10"/>
          <p:cNvSpPr/>
          <p:nvPr/>
        </p:nvSpPr>
        <p:spPr>
          <a:xfrm rot="2952600">
            <a:off x="3095640" y="1670040"/>
            <a:ext cx="649440" cy="426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 rot="18913200">
            <a:off x="3000240" y="3889080"/>
            <a:ext cx="649440" cy="4284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13"/>
          <p:cNvSpPr/>
          <p:nvPr/>
        </p:nvSpPr>
        <p:spPr>
          <a:xfrm rot="13497000">
            <a:off x="5647680" y="373032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14"/>
          <p:cNvSpPr/>
          <p:nvPr/>
        </p:nvSpPr>
        <p:spPr>
          <a:xfrm rot="10800000">
            <a:off x="6192720" y="2833200"/>
            <a:ext cx="395280" cy="42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15"/>
          <p:cNvSpPr/>
          <p:nvPr/>
        </p:nvSpPr>
        <p:spPr>
          <a:xfrm rot="8266800">
            <a:off x="5093640" y="166068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7"/>
          <p:cNvSpPr/>
          <p:nvPr/>
        </p:nvSpPr>
        <p:spPr>
          <a:xfrm>
            <a:off x="755640" y="13032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преподавания, в том числе, объективное оценивание уровня подготовки 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анируется апробировать в 2017 г. различные формы оценки, в том числе, оценку реальной работы учителя на уроке, которая может быть реализована на уровне О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620640" y="371520"/>
            <a:ext cx="806472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сновные группы компетенций (в планируемой модели), 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в соответствии с Профессиональным стандартом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24000" y="11916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mbria"/>
              </a:rPr>
              <a:t>Исследование компетенций учителей, апрель-май 2016 года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1" descr=""/>
          <p:cNvPicPr/>
          <p:nvPr/>
        </p:nvPicPr>
        <p:blipFill>
          <a:blip r:embed="rId1"/>
          <a:srcRect l="0" t="0" r="-38" b="0"/>
          <a:stretch/>
        </p:blipFill>
        <p:spPr>
          <a:xfrm>
            <a:off x="0" y="858960"/>
            <a:ext cx="3995640" cy="2154240"/>
          </a:xfrm>
          <a:prstGeom prst="rect">
            <a:avLst/>
          </a:prstGeom>
          <a:ln w="0">
            <a:noFill/>
          </a:ln>
        </p:spPr>
      </p:pic>
      <p:pic>
        <p:nvPicPr>
          <p:cNvPr id="169" name="Диаграмма 1" descr=""/>
          <p:cNvPicPr/>
          <p:nvPr/>
        </p:nvPicPr>
        <p:blipFill>
          <a:blip r:embed="rId2"/>
          <a:stretch/>
        </p:blipFill>
        <p:spPr>
          <a:xfrm>
            <a:off x="4427640" y="773280"/>
            <a:ext cx="4392360" cy="2323800"/>
          </a:xfrm>
          <a:prstGeom prst="rect">
            <a:avLst/>
          </a:prstGeom>
          <a:ln w="0">
            <a:noFill/>
          </a:ln>
        </p:spPr>
      </p:pic>
      <p:pic>
        <p:nvPicPr>
          <p:cNvPr id="170" name="Диаграмма 1" descr=""/>
          <p:cNvPicPr/>
          <p:nvPr/>
        </p:nvPicPr>
        <p:blipFill>
          <a:blip r:embed="rId3"/>
          <a:srcRect l="-195" t="-4155" r="-816" b="-3377"/>
          <a:stretch/>
        </p:blipFill>
        <p:spPr>
          <a:xfrm>
            <a:off x="2195640" y="3103560"/>
            <a:ext cx="4578120" cy="189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95280" y="5076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дметная 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62160" y="915840"/>
            <a:ext cx="1911240" cy="473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649760" y="933480"/>
            <a:ext cx="32004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,2 %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математ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правились с зад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95640" y="99540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82680" y="175428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ком предложении выделенное слово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643280" y="1727280"/>
            <a:ext cx="424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7,2 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ителей русского языка выбрали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Вот уже несколько минут Иван напряженно всматривал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д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надеясь разглядеть на горизонте пароходный д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39560" y="3193920"/>
            <a:ext cx="396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а цитата из письм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девушка сама неглупая предпочитает дурака умному человеку; и этот человек, разумеется, в противуречии с обществом его окружающим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произведение, о котором идет речь и его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4668840" y="3144960"/>
            <a:ext cx="374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,3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литературы не узнали комедию «Горе от ума» по приведенной ци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42920" y="1417680"/>
            <a:ext cx="67690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аждому из предметов значительная доля учителей показала относительно невысокие результаты выполнения стандартных учебны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констатировать достаточно низкий уровень методических компетенций учителей, неумение объяснить свои действия, спланировать учебную работу в соответствии с конкретной зада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лен недостаточный уровень владения приемами объективного стандартизированного оценивания результатов обучения, что может препятствовать эффективному выполнению учителями их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б уровне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843120"/>
            <a:ext cx="864072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дифференцировать уровень компетенций учителей по всем заявленным блокам, однако имеет свои ограничения: не все виды компетенций можно оценить зада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ые в исследовании подходы могут применяться как для оценки компетенций учителей в рамках аттестационных процедур, так и для диагностики с целью организации адресного повышения квалификации и оказания профессиональной помощи учителю на основе результатов выполнения им диагност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обеспечить единые для всех регионов подходы к оценке уровня квалификации уч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 развитие апробированного подхода в направлении введения уровневой градации результатов диагностики одновременно с модернизацией профессионального стандарта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обеспечить максимальную вариативность заданий, основанных на педагогических ситуациях, чтобы учитель имел возможность проявить свои компетенции в ситуации, близкой к его практическо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рассмотреть вопрос расширения спектра оцениваемых компетенций путем включения оценки психолого-педагогических компетенций учителя, осуществляемой, в том числе, с привлечением региональных методических объединений или на школь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 модели оценки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10-28T08:17:18Z</dcterms:modified>
  <cp:revision>657</cp:revision>
  <dc:subject/>
  <dc:title>Презентация PowerPoint</dc:title>
</cp:coreProperties>
</file>