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6.png" ContentType="image/png"/>
  <Override PartName="/ppt/media/image11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AutoShape 1"/>
          <p:cNvSpPr/>
          <p:nvPr/>
        </p:nvSpPr>
        <p:spPr>
          <a:xfrm>
            <a:off x="0" y="0"/>
            <a:ext cx="6796080" cy="9874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82">
                <a:moveTo>
                  <a:pt x="5" y="0"/>
                </a:moveTo>
                <a:arcTo wR="5" hR="5" stAng="16200000" swAng="-5400000"/>
                <a:lnTo>
                  <a:pt x="0" y="31377"/>
                </a:lnTo>
                <a:arcTo wR="5" hR="5" stAng="10800000" swAng="-5400000"/>
                <a:lnTo>
                  <a:pt x="21595" y="3138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AutoShape 2"/>
          <p:cNvSpPr/>
          <p:nvPr/>
        </p:nvSpPr>
        <p:spPr>
          <a:xfrm>
            <a:off x="0" y="0"/>
            <a:ext cx="6796080" cy="9874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82">
                <a:moveTo>
                  <a:pt x="5" y="0"/>
                </a:moveTo>
                <a:arcTo wR="5" hR="5" stAng="16200000" swAng="-5400000"/>
                <a:lnTo>
                  <a:pt x="0" y="31377"/>
                </a:lnTo>
                <a:arcTo wR="5" hR="5" stAng="10800000" swAng="-5400000"/>
                <a:lnTo>
                  <a:pt x="21595" y="3138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AutoShape 3"/>
          <p:cNvSpPr/>
          <p:nvPr/>
        </p:nvSpPr>
        <p:spPr>
          <a:xfrm>
            <a:off x="0" y="0"/>
            <a:ext cx="6796080" cy="9874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82">
                <a:moveTo>
                  <a:pt x="5" y="0"/>
                </a:moveTo>
                <a:arcTo wR="5" hR="5" stAng="16200000" swAng="-5400000"/>
                <a:lnTo>
                  <a:pt x="0" y="31377"/>
                </a:lnTo>
                <a:arcTo wR="5" hR="5" stAng="10800000" swAng="-5400000"/>
                <a:lnTo>
                  <a:pt x="21595" y="3138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AutoShape 4"/>
          <p:cNvSpPr/>
          <p:nvPr/>
        </p:nvSpPr>
        <p:spPr>
          <a:xfrm>
            <a:off x="0" y="0"/>
            <a:ext cx="6796080" cy="9874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82">
                <a:moveTo>
                  <a:pt x="5" y="0"/>
                </a:moveTo>
                <a:arcTo wR="5" hR="5" stAng="16200000" swAng="-5400000"/>
                <a:lnTo>
                  <a:pt x="0" y="31377"/>
                </a:lnTo>
                <a:arcTo wR="5" hR="5" stAng="10800000" swAng="-5400000"/>
                <a:lnTo>
                  <a:pt x="21595" y="3138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AutoShape 5"/>
          <p:cNvSpPr/>
          <p:nvPr/>
        </p:nvSpPr>
        <p:spPr>
          <a:xfrm>
            <a:off x="0" y="0"/>
            <a:ext cx="6796080" cy="9874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82">
                <a:moveTo>
                  <a:pt x="5" y="0"/>
                </a:moveTo>
                <a:arcTo wR="5" hR="5" stAng="16200000" swAng="-5400000"/>
                <a:lnTo>
                  <a:pt x="0" y="31377"/>
                </a:lnTo>
                <a:arcTo wR="5" hR="5" stAng="10800000" swAng="-5400000"/>
                <a:lnTo>
                  <a:pt x="21595" y="3138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384984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29880" y="739800"/>
            <a:ext cx="4930920" cy="36957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096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10"/>
          <p:cNvSpPr/>
          <p:nvPr/>
        </p:nvSpPr>
        <p:spPr>
          <a:xfrm>
            <a:off x="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sldNum" idx="13"/>
          </p:nvPr>
        </p:nvSpPr>
        <p:spPr>
          <a:xfrm>
            <a:off x="3849840" y="9378720"/>
            <a:ext cx="29383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6AC947-72D7-43F3-9F9F-7832A143FA02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11"/>
          <p:cNvSpPr/>
          <p:nvPr/>
        </p:nvSpPr>
        <p:spPr>
          <a:xfrm>
            <a:off x="3849840" y="9379080"/>
            <a:ext cx="29383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833A1F-9DAE-49FD-86B6-DE56BA76B61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379" name="Text Box 2"/>
          <p:cNvSpPr/>
          <p:nvPr/>
        </p:nvSpPr>
        <p:spPr>
          <a:xfrm>
            <a:off x="679320" y="4689360"/>
            <a:ext cx="5438880" cy="44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008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296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008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296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6008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296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6008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296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63B03A-3507-43AD-8114-FDF9707555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B03099-EACC-42C9-BEB2-F05643413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00FFFB-E6D4-46B8-B06D-F6D6E5221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60605F-E15B-4A70-9E00-D99DF821B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AE215E-2EBF-48E4-A1BA-162B68E01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967B4B-3191-4F4A-8B25-214B40B53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6FF118-F8B1-4D55-91D3-AC468C8F2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CB23DD-8F08-40B2-9E49-7D3206433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6688BC-AE1F-4CD6-91BA-31CE4697B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F6AD4C-A27E-4B4E-85E7-F2223F0AE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7A8794-E293-4458-8BC2-3B7259CD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16008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6296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684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16008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6296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BDA4D7-3BB1-4E4C-8B29-25F3536DB9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D04D6-3482-4EF9-8A76-972DEF5A77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1F78F-0302-44E3-9340-65852682B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638E5-ACEC-4BEA-AEFC-411C9C5A4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5AFB5-BEED-4BAC-8F3F-15CAE8ACE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F9678-8903-42DB-AC55-00E890A44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11A11-DCDA-4096-8415-7070DC7A6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4F115-ED8B-4623-9ECA-115E016F7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7E124-00E3-45BA-8F08-02317FE87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AA666-5760-4E31-8560-790F1C655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82ACA-CD16-4616-8718-4D1C86900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E2904-9EB2-48D1-8331-72282371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16008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86296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684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16008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586296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847E2-D7FB-4702-A359-B0BD29DE9D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50A9C8-7D2E-4C3B-A846-FC4FF6415E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397C7F-D5F4-47F2-B74B-162928897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3C0F60-D402-4D82-870F-607FF8911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2DBDD5-4D93-4E5E-8E9F-ACB237337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14F3B1-730A-4BBE-86DD-984A5638D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E2B05A-AFEE-4CCD-A133-C8369FF79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46FA6A-A7CC-4D00-9683-C1F58C3E0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A1F502-B4CF-4289-9359-518C03407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07AF48-EC21-4D6C-B667-4C8595491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E022EE-E298-4432-9E8B-0E8254679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68022B-BEFE-4FB0-A3BB-FDFAB4FF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16008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86296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684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16008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586296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ABDFC0-C838-443E-8D8A-A8D5285B87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B696BE-EA92-4B05-BD53-EAAB80C472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F8F260-E05C-4508-908C-4B15C1FFC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309928-E4E3-42F3-B628-75E9C28EC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2B9BB5-6AC6-4844-87D0-FD7FC8F19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5CAEB5-2158-4AA5-A65F-3D95FBF1D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04A0A4-FF6B-433C-9431-3C995242C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F73428-D1D0-4A4B-B4EF-299DD2CBE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772944-86C7-4C52-B0D0-F51FBB3A8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9762F7-B11C-4EC6-A212-08FCDBCB7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B5B540-A871-4EAB-B1E5-A0A120D65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A8B6D9-3D36-4FE3-8783-01F73628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16008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86296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684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16008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586296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525042-8FB1-4C19-816D-9D94E9AA36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9E779-5ECA-4756-8F98-9C8F8BA612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5F86D-723E-453A-8245-69A05711E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AA9A8-4512-49C9-A0C5-122A48A7C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42F4C-D711-4452-B784-0B9849063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BFC23-5056-41DC-9388-4FF643B03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745BC-5266-4B39-9576-C7B117814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55DBB-FFC0-4585-80BC-21FE7471E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5F756-EDEA-49C1-99EC-374718558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CAF8A-D850-4872-B623-549861DEB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17F2A-A932-45F7-A6D7-311081ADF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402C7-9CB6-4285-ABFA-40961A3A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16008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86296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684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16008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586296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FEAA8-06C1-4967-B617-EEC7264657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3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B8DC95-E52F-41D4-82CE-EC06DB0CD2CF}" type="datetime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Picture 5" descr=""/>
          <p:cNvPicPr/>
          <p:nvPr/>
        </p:nvPicPr>
        <p:blipFill>
          <a:blip r:embed="rId3"/>
          <a:stretch/>
        </p:blipFill>
        <p:spPr>
          <a:xfrm>
            <a:off x="0" y="189000"/>
            <a:ext cx="990720" cy="1231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4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"/>
          <p:cNvPicPr/>
          <p:nvPr/>
        </p:nvPicPr>
        <p:blipFill>
          <a:blip r:embed="rId5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3"/>
          <a:stretch/>
        </p:blipFill>
        <p:spPr>
          <a:xfrm>
            <a:off x="0" y="189000"/>
            <a:ext cx="990720" cy="1231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4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5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6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7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8"/>
          <a:stretch/>
        </p:blipFill>
        <p:spPr>
          <a:xfrm>
            <a:off x="1042920" y="189000"/>
            <a:ext cx="8029800" cy="79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8B267B-5275-4C75-99C4-A2FDE0534FDF}" type="datetime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b4"/>
            </a:gs>
            <a:gs pos="100000">
              <a:srgbClr val="fff46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1"/>
          <p:cNvSpPr/>
          <p:nvPr/>
        </p:nvSpPr>
        <p:spPr>
          <a:xfrm>
            <a:off x="0" y="5105520"/>
            <a:ext cx="9144000" cy="17524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9144000" h="1752600">
                <a:moveTo>
                  <a:pt x="0" y="0"/>
                </a:moveTo>
                <a:lnTo>
                  <a:pt x="25400" y="0"/>
                </a:lnTo>
                <a:lnTo>
                  <a:pt x="25400" y="4868"/>
                </a:lnTo>
                <a:lnTo>
                  <a:pt x="0" y="486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96078"/>
                </a:srgbClr>
              </a:gs>
              <a:gs pos="100000">
                <a:srgbClr val="fefac9">
                  <a:alpha val="8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2"/>
          <p:cNvSpPr/>
          <p:nvPr/>
        </p:nvSpPr>
        <p:spPr>
          <a:xfrm>
            <a:off x="0" y="0"/>
            <a:ext cx="9144000" cy="51055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105520"/>
              <a:gd name="textAreaBottom" fmla="*/ 5105880 h 5105520"/>
            </a:gdLst>
            <a:ahLst/>
            <a:rect l="textAreaLeft" t="textAreaTop" r="textAreaRight" b="textAreaBottom"/>
            <a:pathLst>
              <a:path w="9144000" h="5105400">
                <a:moveTo>
                  <a:pt x="0" y="0"/>
                </a:moveTo>
                <a:lnTo>
                  <a:pt x="25400" y="0"/>
                </a:lnTo>
                <a:lnTo>
                  <a:pt x="25400" y="14182"/>
                </a:lnTo>
                <a:lnTo>
                  <a:pt x="0" y="1418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94117"/>
                </a:srgbClr>
              </a:gs>
              <a:gs pos="100000">
                <a:srgbClr val="fefac9">
                  <a:alpha val="8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3"/>
          <p:cNvSpPr/>
          <p:nvPr/>
        </p:nvSpPr>
        <p:spPr>
          <a:xfrm>
            <a:off x="0" y="3768840"/>
            <a:ext cx="9144000" cy="2286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9144000" h="2286000">
                <a:moveTo>
                  <a:pt x="0" y="0"/>
                </a:moveTo>
                <a:lnTo>
                  <a:pt x="25400" y="0"/>
                </a:lnTo>
                <a:lnTo>
                  <a:pt x="25400" y="6350"/>
                </a:lnTo>
                <a:lnTo>
                  <a:pt x="0" y="635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efac9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0" y="1600200"/>
            <a:ext cx="9144000" cy="51055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105520"/>
              <a:gd name="textAreaBottom" fmla="*/ 5105880 h 5105520"/>
            </a:gdLst>
            <a:ahLst/>
            <a:rect l="textAreaLeft" t="textAreaTop" r="textAreaRight" b="textAreaBottom"/>
            <a:pathLst>
              <a:path w="9144000" h="5105400">
                <a:moveTo>
                  <a:pt x="0" y="7091"/>
                </a:moveTo>
                <a:lnTo>
                  <a:pt x="12700" y="7091"/>
                </a:lnTo>
                <a:lnTo>
                  <a:pt x="180" y="90"/>
                </a:lnTo>
                <a:lnTo>
                  <a:pt x="12700" y="7091"/>
                </a:lnTo>
                <a:lnTo>
                  <a:pt x="270" y="90"/>
                </a:lnTo>
                <a:lnTo>
                  <a:pt x="0" y="709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dt" idx="3"/>
          </p:nvPr>
        </p:nvSpPr>
        <p:spPr>
          <a:xfrm>
            <a:off x="6171840" y="6172200"/>
            <a:ext cx="25066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100" spc="-1" strike="noStrike">
                <a:solidFill>
                  <a:srgbClr val="808080"/>
                </a:solidFill>
                <a:latin typeface="Trebuchet MS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AF796E-0FF5-4506-8625-87C69D9724D4}" type="datetime">
              <a:rPr b="1" lang="ru-RU" sz="1100" spc="-1" strike="noStrike">
                <a:solidFill>
                  <a:srgbClr val="808080"/>
                </a:solidFill>
                <a:latin typeface="Trebuchet MS"/>
                <a:ea typeface="Segoe UI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ldNum" idx="4"/>
          </p:nvPr>
        </p:nvSpPr>
        <p:spPr>
          <a:xfrm>
            <a:off x="3809880" y="6172200"/>
            <a:ext cx="18208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200" spc="-1" strike="noStrike">
                <a:solidFill>
                  <a:srgbClr val="808080"/>
                </a:solidFill>
                <a:latin typeface="Trebuchet MS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55B577-EE96-4D96-BFB4-189F79D2B866}" type="slidenum">
              <a:rPr b="1" lang="ru-RU" sz="1200" spc="-1" strike="noStrike">
                <a:solidFill>
                  <a:srgbClr val="808080"/>
                </a:solidFill>
                <a:latin typeface="Trebuchet MS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041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1143000" y="731520"/>
            <a:ext cx="6392880" cy="34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325800" indent="-3258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325800" indent="-3258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325800" indent="-3258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325800" indent="-3258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325800" indent="-3258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325800" indent="-3258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b4"/>
            </a:gs>
            <a:gs pos="100000">
              <a:srgbClr val="fff46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1"/>
          <p:cNvSpPr/>
          <p:nvPr/>
        </p:nvSpPr>
        <p:spPr>
          <a:xfrm>
            <a:off x="0" y="5105520"/>
            <a:ext cx="9144000" cy="17524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9144000" h="1752600">
                <a:moveTo>
                  <a:pt x="0" y="0"/>
                </a:moveTo>
                <a:lnTo>
                  <a:pt x="25400" y="0"/>
                </a:lnTo>
                <a:lnTo>
                  <a:pt x="25400" y="4868"/>
                </a:lnTo>
                <a:lnTo>
                  <a:pt x="0" y="486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96078"/>
                </a:srgbClr>
              </a:gs>
              <a:gs pos="100000">
                <a:srgbClr val="fefac9">
                  <a:alpha val="8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2"/>
          <p:cNvSpPr/>
          <p:nvPr/>
        </p:nvSpPr>
        <p:spPr>
          <a:xfrm>
            <a:off x="0" y="0"/>
            <a:ext cx="9144000" cy="51055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105520"/>
              <a:gd name="textAreaBottom" fmla="*/ 5105880 h 5105520"/>
            </a:gdLst>
            <a:ahLst/>
            <a:rect l="textAreaLeft" t="textAreaTop" r="textAreaRight" b="textAreaBottom"/>
            <a:pathLst>
              <a:path w="9144000" h="5105400">
                <a:moveTo>
                  <a:pt x="0" y="0"/>
                </a:moveTo>
                <a:lnTo>
                  <a:pt x="25400" y="0"/>
                </a:lnTo>
                <a:lnTo>
                  <a:pt x="25400" y="14182"/>
                </a:lnTo>
                <a:lnTo>
                  <a:pt x="0" y="1418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94117"/>
                </a:srgbClr>
              </a:gs>
              <a:gs pos="100000">
                <a:srgbClr val="fefac9">
                  <a:alpha val="8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0" y="3768840"/>
            <a:ext cx="9144000" cy="2286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9144000" h="2286000">
                <a:moveTo>
                  <a:pt x="0" y="0"/>
                </a:moveTo>
                <a:lnTo>
                  <a:pt x="25400" y="0"/>
                </a:lnTo>
                <a:lnTo>
                  <a:pt x="25400" y="6350"/>
                </a:lnTo>
                <a:lnTo>
                  <a:pt x="0" y="635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efac9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0" y="1600200"/>
            <a:ext cx="9144000" cy="51055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105520"/>
              <a:gd name="textAreaBottom" fmla="*/ 5105880 h 5105520"/>
            </a:gdLst>
            <a:ahLst/>
            <a:rect l="textAreaLeft" t="textAreaTop" r="textAreaRight" b="textAreaBottom"/>
            <a:pathLst>
              <a:path w="9144000" h="5105400">
                <a:moveTo>
                  <a:pt x="0" y="7091"/>
                </a:moveTo>
                <a:lnTo>
                  <a:pt x="12700" y="7091"/>
                </a:lnTo>
                <a:lnTo>
                  <a:pt x="180" y="90"/>
                </a:lnTo>
                <a:lnTo>
                  <a:pt x="12700" y="7091"/>
                </a:lnTo>
                <a:lnTo>
                  <a:pt x="270" y="90"/>
                </a:lnTo>
                <a:lnTo>
                  <a:pt x="0" y="709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0" y="3867120"/>
            <a:ext cx="9144000" cy="29908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990880"/>
              <a:gd name="textAreaBottom" fmla="*/ 2991240 h 2990880"/>
            </a:gdLst>
            <a:ahLst/>
            <a:rect l="textAreaLeft" t="textAreaTop" r="textAreaRight" b="textAreaBottom"/>
            <a:pathLst>
              <a:path w="9144000" h="2990850">
                <a:moveTo>
                  <a:pt x="0" y="0"/>
                </a:moveTo>
                <a:lnTo>
                  <a:pt x="25400" y="0"/>
                </a:lnTo>
                <a:lnTo>
                  <a:pt x="25400" y="8309"/>
                </a:lnTo>
                <a:lnTo>
                  <a:pt x="0" y="8309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97254"/>
                </a:srgbClr>
              </a:gs>
              <a:gs pos="100000">
                <a:srgbClr val="fefac9">
                  <a:alpha val="8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6"/>
          <p:cNvSpPr/>
          <p:nvPr/>
        </p:nvSpPr>
        <p:spPr>
          <a:xfrm>
            <a:off x="0" y="0"/>
            <a:ext cx="9144000" cy="38671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3867120"/>
              <a:gd name="textAreaBottom" fmla="*/ 3867480 h 3867120"/>
            </a:gdLst>
            <a:ahLst/>
            <a:rect l="textAreaLeft" t="textAreaTop" r="textAreaRight" b="textAreaBottom"/>
            <a:pathLst>
              <a:path w="9144000" h="3867150">
                <a:moveTo>
                  <a:pt x="0" y="0"/>
                </a:moveTo>
                <a:lnTo>
                  <a:pt x="25400" y="0"/>
                </a:lnTo>
                <a:lnTo>
                  <a:pt x="25400" y="10741"/>
                </a:lnTo>
                <a:lnTo>
                  <a:pt x="0" y="1074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95294"/>
                </a:srgbClr>
              </a:gs>
              <a:gs pos="100000">
                <a:srgbClr val="fefac9">
                  <a:alpha val="8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7"/>
          <p:cNvSpPr/>
          <p:nvPr/>
        </p:nvSpPr>
        <p:spPr>
          <a:xfrm>
            <a:off x="0" y="2652840"/>
            <a:ext cx="9144000" cy="2286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9144000" h="2286000">
                <a:moveTo>
                  <a:pt x="0" y="0"/>
                </a:moveTo>
                <a:lnTo>
                  <a:pt x="25400" y="0"/>
                </a:lnTo>
                <a:lnTo>
                  <a:pt x="25400" y="6350"/>
                </a:lnTo>
                <a:lnTo>
                  <a:pt x="0" y="635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efac9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8"/>
          <p:cNvSpPr/>
          <p:nvPr/>
        </p:nvSpPr>
        <p:spPr>
          <a:xfrm>
            <a:off x="0" y="1600200"/>
            <a:ext cx="9144000" cy="51055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105520"/>
              <a:gd name="textAreaBottom" fmla="*/ 5105880 h 5105520"/>
            </a:gdLst>
            <a:ahLst/>
            <a:rect l="textAreaLeft" t="textAreaTop" r="textAreaRight" b="textAreaBottom"/>
            <a:pathLst>
              <a:path w="9144000" h="5105400">
                <a:moveTo>
                  <a:pt x="0" y="7091"/>
                </a:moveTo>
                <a:lnTo>
                  <a:pt x="12700" y="7091"/>
                </a:lnTo>
                <a:lnTo>
                  <a:pt x="180" y="90"/>
                </a:lnTo>
                <a:lnTo>
                  <a:pt x="12700" y="7091"/>
                </a:lnTo>
                <a:lnTo>
                  <a:pt x="270" y="90"/>
                </a:lnTo>
                <a:lnTo>
                  <a:pt x="0" y="709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033640" y="2172960"/>
            <a:ext cx="59580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2022120" y="4606560"/>
            <a:ext cx="5962680" cy="8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marL="7200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2000" indent="-72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72000" indent="-72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72000" indent="-72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72000" indent="-72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72000" indent="-72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72000" indent="-72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5"/>
          </p:nvPr>
        </p:nvSpPr>
        <p:spPr>
          <a:xfrm>
            <a:off x="6171840" y="6172200"/>
            <a:ext cx="25066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100" spc="-1" strike="noStrike">
                <a:solidFill>
                  <a:srgbClr val="808080"/>
                </a:solidFill>
                <a:latin typeface="Trebuchet MS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6FD08B-1473-4B2A-BBF4-9473535B61FD}" type="datetime">
              <a:rPr b="1" lang="ru-RU" sz="1100" spc="-1" strike="noStrike">
                <a:solidFill>
                  <a:srgbClr val="808080"/>
                </a:solidFill>
                <a:latin typeface="Trebuchet MS"/>
                <a:ea typeface="Segoe UI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08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200" spc="-1" strike="noStrike">
                <a:solidFill>
                  <a:srgbClr val="808080"/>
                </a:solidFill>
                <a:latin typeface="Trebuchet MS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0792F4-3258-4BE0-A7D8-FE685534120A}" type="slidenum">
              <a:rPr b="1" lang="ru-RU" sz="1200" spc="-1" strike="noStrike">
                <a:solidFill>
                  <a:srgbClr val="808080"/>
                </a:solidFill>
                <a:latin typeface="Trebuchet MS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b4"/>
            </a:gs>
            <a:gs pos="100000">
              <a:srgbClr val="fff46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AutoShape 1"/>
          <p:cNvSpPr/>
          <p:nvPr/>
        </p:nvSpPr>
        <p:spPr>
          <a:xfrm>
            <a:off x="0" y="5105520"/>
            <a:ext cx="9144000" cy="17524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9144000" h="1752600">
                <a:moveTo>
                  <a:pt x="0" y="0"/>
                </a:moveTo>
                <a:lnTo>
                  <a:pt x="25400" y="0"/>
                </a:lnTo>
                <a:lnTo>
                  <a:pt x="25400" y="4868"/>
                </a:lnTo>
                <a:lnTo>
                  <a:pt x="0" y="486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96078"/>
                </a:srgbClr>
              </a:gs>
              <a:gs pos="100000">
                <a:srgbClr val="fefac9">
                  <a:alpha val="8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2"/>
          <p:cNvSpPr/>
          <p:nvPr/>
        </p:nvSpPr>
        <p:spPr>
          <a:xfrm>
            <a:off x="0" y="0"/>
            <a:ext cx="9144000" cy="51055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105520"/>
              <a:gd name="textAreaBottom" fmla="*/ 5105880 h 5105520"/>
            </a:gdLst>
            <a:ahLst/>
            <a:rect l="textAreaLeft" t="textAreaTop" r="textAreaRight" b="textAreaBottom"/>
            <a:pathLst>
              <a:path w="9144000" h="5105400">
                <a:moveTo>
                  <a:pt x="0" y="0"/>
                </a:moveTo>
                <a:lnTo>
                  <a:pt x="25400" y="0"/>
                </a:lnTo>
                <a:lnTo>
                  <a:pt x="25400" y="14182"/>
                </a:lnTo>
                <a:lnTo>
                  <a:pt x="0" y="1418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94117"/>
                </a:srgbClr>
              </a:gs>
              <a:gs pos="100000">
                <a:srgbClr val="fefac9">
                  <a:alpha val="8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3"/>
          <p:cNvSpPr/>
          <p:nvPr/>
        </p:nvSpPr>
        <p:spPr>
          <a:xfrm>
            <a:off x="0" y="3768840"/>
            <a:ext cx="9144000" cy="2286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9144000" h="2286000">
                <a:moveTo>
                  <a:pt x="0" y="0"/>
                </a:moveTo>
                <a:lnTo>
                  <a:pt x="25400" y="0"/>
                </a:lnTo>
                <a:lnTo>
                  <a:pt x="25400" y="6350"/>
                </a:lnTo>
                <a:lnTo>
                  <a:pt x="0" y="635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efac9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AutoShape 4"/>
          <p:cNvSpPr/>
          <p:nvPr/>
        </p:nvSpPr>
        <p:spPr>
          <a:xfrm>
            <a:off x="0" y="1600200"/>
            <a:ext cx="9144000" cy="51055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105520"/>
              <a:gd name="textAreaBottom" fmla="*/ 5105880 h 5105520"/>
            </a:gdLst>
            <a:ahLst/>
            <a:rect l="textAreaLeft" t="textAreaTop" r="textAreaRight" b="textAreaBottom"/>
            <a:pathLst>
              <a:path w="9144000" h="5105400">
                <a:moveTo>
                  <a:pt x="0" y="7091"/>
                </a:moveTo>
                <a:lnTo>
                  <a:pt x="12700" y="7091"/>
                </a:lnTo>
                <a:lnTo>
                  <a:pt x="180" y="90"/>
                </a:lnTo>
                <a:lnTo>
                  <a:pt x="12700" y="7091"/>
                </a:lnTo>
                <a:lnTo>
                  <a:pt x="270" y="90"/>
                </a:lnTo>
                <a:lnTo>
                  <a:pt x="0" y="709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066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100" spc="-1" strike="noStrike">
                <a:solidFill>
                  <a:srgbClr val="808080"/>
                </a:solidFill>
                <a:latin typeface="Trebuchet MS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E7EFD8-48E1-43F0-9144-8C0B9572E9D3}" type="datetime">
              <a:rPr b="1" lang="ru-RU" sz="1100" spc="-1" strike="noStrike">
                <a:solidFill>
                  <a:srgbClr val="808080"/>
                </a:solidFill>
                <a:latin typeface="Trebuchet MS"/>
                <a:ea typeface="Segoe UI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ldNum" idx="8"/>
          </p:nvPr>
        </p:nvSpPr>
        <p:spPr>
          <a:xfrm>
            <a:off x="3809880" y="6172200"/>
            <a:ext cx="18208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200" spc="-1" strike="noStrike">
                <a:solidFill>
                  <a:srgbClr val="808080"/>
                </a:solidFill>
                <a:latin typeface="Trebuchet MS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A95B55-9BAD-4F35-A57E-429BC1080BA0}" type="slidenum">
              <a:rPr b="1" lang="ru-RU" sz="1200" spc="-1" strike="noStrike">
                <a:solidFill>
                  <a:srgbClr val="808080"/>
                </a:solidFill>
                <a:latin typeface="Trebuchet MS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1680" cy="396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b4"/>
            </a:gs>
            <a:gs pos="100000">
              <a:srgbClr val="fff46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AutoShape 1"/>
          <p:cNvSpPr/>
          <p:nvPr/>
        </p:nvSpPr>
        <p:spPr>
          <a:xfrm>
            <a:off x="0" y="5105520"/>
            <a:ext cx="9144000" cy="17524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9144000" h="1752600">
                <a:moveTo>
                  <a:pt x="0" y="0"/>
                </a:moveTo>
                <a:lnTo>
                  <a:pt x="25400" y="0"/>
                </a:lnTo>
                <a:lnTo>
                  <a:pt x="25400" y="4868"/>
                </a:lnTo>
                <a:lnTo>
                  <a:pt x="0" y="486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96078"/>
                </a:srgbClr>
              </a:gs>
              <a:gs pos="100000">
                <a:srgbClr val="fefac9">
                  <a:alpha val="8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AutoShape 2"/>
          <p:cNvSpPr/>
          <p:nvPr/>
        </p:nvSpPr>
        <p:spPr>
          <a:xfrm>
            <a:off x="0" y="0"/>
            <a:ext cx="9144000" cy="51055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105520"/>
              <a:gd name="textAreaBottom" fmla="*/ 5105880 h 5105520"/>
            </a:gdLst>
            <a:ahLst/>
            <a:rect l="textAreaLeft" t="textAreaTop" r="textAreaRight" b="textAreaBottom"/>
            <a:pathLst>
              <a:path w="9144000" h="5105400">
                <a:moveTo>
                  <a:pt x="0" y="0"/>
                </a:moveTo>
                <a:lnTo>
                  <a:pt x="25400" y="0"/>
                </a:lnTo>
                <a:lnTo>
                  <a:pt x="25400" y="14182"/>
                </a:lnTo>
                <a:lnTo>
                  <a:pt x="0" y="1418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94117"/>
                </a:srgbClr>
              </a:gs>
              <a:gs pos="100000">
                <a:srgbClr val="fefac9">
                  <a:alpha val="8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3"/>
          <p:cNvSpPr/>
          <p:nvPr/>
        </p:nvSpPr>
        <p:spPr>
          <a:xfrm>
            <a:off x="0" y="3768840"/>
            <a:ext cx="9144000" cy="2286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9144000" h="2286000">
                <a:moveTo>
                  <a:pt x="0" y="0"/>
                </a:moveTo>
                <a:lnTo>
                  <a:pt x="25400" y="0"/>
                </a:lnTo>
                <a:lnTo>
                  <a:pt x="25400" y="6350"/>
                </a:lnTo>
                <a:lnTo>
                  <a:pt x="0" y="635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efac9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AutoShape 4"/>
          <p:cNvSpPr/>
          <p:nvPr/>
        </p:nvSpPr>
        <p:spPr>
          <a:xfrm>
            <a:off x="0" y="1600200"/>
            <a:ext cx="9144000" cy="51055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105520"/>
              <a:gd name="textAreaBottom" fmla="*/ 5105880 h 5105520"/>
            </a:gdLst>
            <a:ahLst/>
            <a:rect l="textAreaLeft" t="textAreaTop" r="textAreaRight" b="textAreaBottom"/>
            <a:pathLst>
              <a:path w="9144000" h="5105400">
                <a:moveTo>
                  <a:pt x="0" y="7091"/>
                </a:moveTo>
                <a:lnTo>
                  <a:pt x="12700" y="7091"/>
                </a:lnTo>
                <a:lnTo>
                  <a:pt x="180" y="90"/>
                </a:lnTo>
                <a:lnTo>
                  <a:pt x="12700" y="7091"/>
                </a:lnTo>
                <a:lnTo>
                  <a:pt x="270" y="90"/>
                </a:lnTo>
                <a:lnTo>
                  <a:pt x="0" y="709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041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dt" idx="9"/>
          </p:nvPr>
        </p:nvSpPr>
        <p:spPr>
          <a:xfrm>
            <a:off x="6171840" y="6172200"/>
            <a:ext cx="25066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100" spc="-1" strike="noStrike">
                <a:solidFill>
                  <a:srgbClr val="808080"/>
                </a:solidFill>
                <a:latin typeface="Trebuchet MS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C60522-BC7A-4EC9-A884-E1A7E1B13C75}" type="datetime">
              <a:rPr b="1" lang="ru-RU" sz="1100" spc="-1" strike="noStrike">
                <a:solidFill>
                  <a:srgbClr val="808080"/>
                </a:solidFill>
                <a:latin typeface="Trebuchet MS"/>
                <a:ea typeface="Segoe UI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10"/>
          </p:nvPr>
        </p:nvSpPr>
        <p:spPr>
          <a:xfrm>
            <a:off x="3809880" y="6172200"/>
            <a:ext cx="18208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200" spc="-1" strike="noStrike">
                <a:solidFill>
                  <a:srgbClr val="808080"/>
                </a:solidFill>
                <a:latin typeface="Trebuchet MS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006C68-CD9C-4B58-8C50-4F629503E630}" type="slidenum">
              <a:rPr b="1" lang="ru-RU" sz="1200" spc="-1" strike="noStrike">
                <a:solidFill>
                  <a:srgbClr val="808080"/>
                </a:solidFill>
                <a:latin typeface="Trebuchet MS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1680" cy="396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b4"/>
            </a:gs>
            <a:gs pos="100000">
              <a:srgbClr val="fff46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AutoShape 1"/>
          <p:cNvSpPr/>
          <p:nvPr/>
        </p:nvSpPr>
        <p:spPr>
          <a:xfrm>
            <a:off x="0" y="5105520"/>
            <a:ext cx="9144000" cy="17524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9144000" h="1752600">
                <a:moveTo>
                  <a:pt x="0" y="0"/>
                </a:moveTo>
                <a:lnTo>
                  <a:pt x="25400" y="0"/>
                </a:lnTo>
                <a:lnTo>
                  <a:pt x="25400" y="4868"/>
                </a:lnTo>
                <a:lnTo>
                  <a:pt x="0" y="486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96078"/>
                </a:srgbClr>
              </a:gs>
              <a:gs pos="100000">
                <a:srgbClr val="fefac9">
                  <a:alpha val="8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AutoShape 2"/>
          <p:cNvSpPr/>
          <p:nvPr/>
        </p:nvSpPr>
        <p:spPr>
          <a:xfrm>
            <a:off x="0" y="0"/>
            <a:ext cx="9144000" cy="51055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105520"/>
              <a:gd name="textAreaBottom" fmla="*/ 5105880 h 5105520"/>
            </a:gdLst>
            <a:ahLst/>
            <a:rect l="textAreaLeft" t="textAreaTop" r="textAreaRight" b="textAreaBottom"/>
            <a:pathLst>
              <a:path w="9144000" h="5105400">
                <a:moveTo>
                  <a:pt x="0" y="0"/>
                </a:moveTo>
                <a:lnTo>
                  <a:pt x="25400" y="0"/>
                </a:lnTo>
                <a:lnTo>
                  <a:pt x="25400" y="14182"/>
                </a:lnTo>
                <a:lnTo>
                  <a:pt x="0" y="1418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94117"/>
                </a:srgbClr>
              </a:gs>
              <a:gs pos="100000">
                <a:srgbClr val="fefac9">
                  <a:alpha val="8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3"/>
          <p:cNvSpPr/>
          <p:nvPr/>
        </p:nvSpPr>
        <p:spPr>
          <a:xfrm>
            <a:off x="0" y="3768840"/>
            <a:ext cx="9144000" cy="2286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9144000" h="2286000">
                <a:moveTo>
                  <a:pt x="0" y="0"/>
                </a:moveTo>
                <a:lnTo>
                  <a:pt x="25400" y="0"/>
                </a:lnTo>
                <a:lnTo>
                  <a:pt x="25400" y="6350"/>
                </a:lnTo>
                <a:lnTo>
                  <a:pt x="0" y="635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efac9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AutoShape 4"/>
          <p:cNvSpPr/>
          <p:nvPr/>
        </p:nvSpPr>
        <p:spPr>
          <a:xfrm>
            <a:off x="0" y="1600200"/>
            <a:ext cx="9144000" cy="51055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105520"/>
              <a:gd name="textAreaBottom" fmla="*/ 5105880 h 5105520"/>
            </a:gdLst>
            <a:ahLst/>
            <a:rect l="textAreaLeft" t="textAreaTop" r="textAreaRight" b="textAreaBottom"/>
            <a:pathLst>
              <a:path w="9144000" h="5105400">
                <a:moveTo>
                  <a:pt x="0" y="7091"/>
                </a:moveTo>
                <a:lnTo>
                  <a:pt x="12700" y="7091"/>
                </a:lnTo>
                <a:lnTo>
                  <a:pt x="180" y="90"/>
                </a:lnTo>
                <a:lnTo>
                  <a:pt x="12700" y="7091"/>
                </a:lnTo>
                <a:lnTo>
                  <a:pt x="270" y="90"/>
                </a:lnTo>
                <a:lnTo>
                  <a:pt x="0" y="709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1"/>
          </p:nvPr>
        </p:nvSpPr>
        <p:spPr>
          <a:xfrm>
            <a:off x="6171840" y="6172200"/>
            <a:ext cx="25066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100" spc="-1" strike="noStrike">
                <a:solidFill>
                  <a:srgbClr val="808080"/>
                </a:solidFill>
                <a:latin typeface="Trebuchet MS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A1B47B-BD49-457E-82C6-2DEC9F2B0687}" type="datetime">
              <a:rPr b="1" lang="ru-RU" sz="1100" spc="-1" strike="noStrike">
                <a:solidFill>
                  <a:srgbClr val="808080"/>
                </a:solidFill>
                <a:latin typeface="Trebuchet MS"/>
                <a:ea typeface="Segoe UI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08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200" spc="-1" strike="noStrike">
                <a:solidFill>
                  <a:srgbClr val="808080"/>
                </a:solidFill>
                <a:latin typeface="Trebuchet MS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23AE6E-D20D-4A2A-A82F-C9ADBFB6834D}" type="slidenum">
              <a:rPr b="1" lang="ru-RU" sz="1200" spc="-1" strike="noStrike">
                <a:solidFill>
                  <a:srgbClr val="808080"/>
                </a:solidFill>
                <a:latin typeface="Trebuchet MS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26920" y="2133360"/>
            <a:ext cx="7772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О подходах к разработке</a:t>
            </a:r>
            <a:br>
              <a:rPr sz="3200"/>
            </a:br>
            <a:r>
              <a:rPr b="1" lang="ru-RU" sz="32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всероссийских проверочных работ </a:t>
            </a:r>
            <a:br>
              <a:rPr sz="3200"/>
            </a:br>
            <a:r>
              <a:rPr b="1" lang="ru-RU" sz="32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по пяти предметам </a:t>
            </a:r>
            <a:br>
              <a:rPr sz="3200"/>
            </a:br>
            <a:r>
              <a:rPr b="1" lang="ru-RU" sz="32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для обучающихся 11 клас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2484360" y="566064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664d"/>
                </a:solidFill>
                <a:latin typeface="Arial"/>
              </a:rPr>
              <a:t>Демидова М.Ю., руководитель Центра педагогических измерений ФГБНУ «ФИП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5024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иболее значимые элементы содержания. Примеры за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2536920" y="5084640"/>
            <a:ext cx="4535280" cy="152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51" name="Picture 3" descr=""/>
          <p:cNvPicPr/>
          <p:nvPr/>
        </p:nvPicPr>
        <p:blipFill>
          <a:blip r:embed="rId2"/>
          <a:stretch/>
        </p:blipFill>
        <p:spPr>
          <a:xfrm>
            <a:off x="324000" y="1563840"/>
            <a:ext cx="4446360" cy="2657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52" name="Picture 5" descr=""/>
          <p:cNvPicPr/>
          <p:nvPr/>
        </p:nvPicPr>
        <p:blipFill>
          <a:blip r:embed="rId3"/>
          <a:stretch/>
        </p:blipFill>
        <p:spPr>
          <a:xfrm>
            <a:off x="4211640" y="3111480"/>
            <a:ext cx="4481640" cy="180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71280" y="128160"/>
            <a:ext cx="78613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тоды научного познания. Примеры за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5003640" y="1273320"/>
            <a:ext cx="3961080" cy="5387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55" name="Picture 3" descr=""/>
          <p:cNvPicPr/>
          <p:nvPr/>
        </p:nvPicPr>
        <p:blipFill>
          <a:blip r:embed="rId2"/>
          <a:stretch/>
        </p:blipFill>
        <p:spPr>
          <a:xfrm>
            <a:off x="324000" y="4659480"/>
            <a:ext cx="4432320" cy="200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6" name="Прямоугольник 2"/>
          <p:cNvSpPr/>
          <p:nvPr/>
        </p:nvSpPr>
        <p:spPr>
          <a:xfrm>
            <a:off x="466560" y="1557360"/>
            <a:ext cx="4572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Arial"/>
              </a:rPr>
              <a:t>Понимание фундаментальных опы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664d"/>
                </a:solidFill>
                <a:latin typeface="Arial"/>
              </a:rPr>
              <a:t>Самостоятельное планирование исследовани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5024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пользование контекста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Примеры за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4559040" cy="46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59" name="Picture 3" descr=""/>
          <p:cNvPicPr/>
          <p:nvPr/>
        </p:nvPicPr>
        <p:blipFill>
          <a:blip r:embed="rId2"/>
          <a:stretch/>
        </p:blipFill>
        <p:spPr>
          <a:xfrm>
            <a:off x="4481640" y="2897280"/>
            <a:ext cx="4576680" cy="722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60" name="Picture 4" descr=""/>
          <p:cNvPicPr/>
          <p:nvPr/>
        </p:nvPicPr>
        <p:blipFill>
          <a:blip r:embed="rId3"/>
          <a:stretch/>
        </p:blipFill>
        <p:spPr>
          <a:xfrm>
            <a:off x="4500720" y="3943440"/>
            <a:ext cx="4557600" cy="2225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332000" y="333000"/>
            <a:ext cx="7213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иолог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68000" y="1484280"/>
            <a:ext cx="79945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342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Задания контролируют степень овладения знаниями и умениями базового курса биологии и проверяют сформированность у выпускников практико-ориентированной биологической компетент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342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Разделы курса биологии: </a:t>
            </a: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«Биология как наука. Методы научного познания», «Клетка», «Организм», «Вид», «Экосистемы», «Организм человека и его здоровье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342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Проверка групп умений:</a:t>
            </a: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усвоение понятийного аппарата курса биолог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овладение методологическими умения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применение знаний при объяснении биологических процессов, явлений, а также решении элементарных биологических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овладение умениями по работе с информацией биологического содерж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75009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иболее значимые элементы содержания. Примеры за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3348000" y="3906720"/>
            <a:ext cx="5602320" cy="2760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65" name="Picture 3" descr=""/>
          <p:cNvPicPr/>
          <p:nvPr/>
        </p:nvPicPr>
        <p:blipFill>
          <a:blip r:embed="rId2"/>
          <a:stretch/>
        </p:blipFill>
        <p:spPr>
          <a:xfrm>
            <a:off x="179280" y="1457280"/>
            <a:ext cx="5343480" cy="239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75009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актико-ориентированное содержание заданий. Примеры за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4788000" y="1550880"/>
            <a:ext cx="4130640" cy="5148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68" name="Picture 3" descr=""/>
          <p:cNvPicPr/>
          <p:nvPr/>
        </p:nvPicPr>
        <p:blipFill>
          <a:blip r:embed="rId2"/>
          <a:stretch/>
        </p:blipFill>
        <p:spPr>
          <a:xfrm>
            <a:off x="331920" y="3651120"/>
            <a:ext cx="4294080" cy="301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332000" y="333000"/>
            <a:ext cx="7213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Хим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68000" y="1700280"/>
            <a:ext cx="79945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Включены задания по содержательным блокам: «Теоретические основы химии», «Неорганическая химия», «Органическая химия», «Методы познания в химии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Задания с кратким ответом проверяют на базовом уровне усвоение большинства элементов содержания, изучаемых в рамках основных тем курса химии 10-11 клас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Задания с развернутым ответом проверяют ум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составлять уравнения реакций, подтверждающих свойства веществ и/или взаимосвязь различных классов вещест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объяснять обусловленность свойств и способов получения веществ их составом и строение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вычислять массу или объем веществ, участвующих в реа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332000" y="333000"/>
            <a:ext cx="7213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еограф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68360" y="1484280"/>
            <a:ext cx="82072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671760" indent="-3355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Содержание: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Источники географической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Мировое хозяй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Природопользование и геоэк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Регионы и страны ми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География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71760" indent="-33552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В работе проверя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3800" indent="-27972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знание географических явлений и процессов в геосферах и географических особенностей природы населения и хозяйства отдельных территор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3800" indent="-27972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умение анализировать географическую информацию, представленную в различных форма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3800" indent="-27972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способность применять полученные в школе географические знания для объяснения различных событий и явлений в повседневной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71760" indent="-3355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332000" y="333000"/>
            <a:ext cx="7213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бликация докумен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68000" y="1484280"/>
            <a:ext cx="79945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342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Публикация документов</a:t>
            </a:r>
            <a:r>
              <a:rPr b="0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, регламентирующих разработку ВПР-11 по пяти предмет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Описания всероссийских проверочных раб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Кодификаторы проверяемых элементов содержания и требований к уровню подготовки выпуск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Образцы всероссийских проверочных раб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342720" algn="r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конец ноября 2016 года, сайт ФГБНУ «ФИП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342720" algn="r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342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Содержание ВПР не требует организации специальной подготовк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1"/>
          <p:cNvSpPr/>
          <p:nvPr/>
        </p:nvSpPr>
        <p:spPr>
          <a:xfrm>
            <a:off x="380880" y="3886200"/>
            <a:ext cx="853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2"/>
          <p:cNvSpPr/>
          <p:nvPr/>
        </p:nvSpPr>
        <p:spPr>
          <a:xfrm>
            <a:off x="826920" y="2637000"/>
            <a:ext cx="7604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1e4649"/>
                </a:solidFill>
                <a:latin typeface="Garamond"/>
              </a:rPr>
              <a:t>СПАСИБО ЗА ВНИМАНИЕ!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618920" y="7560"/>
            <a:ext cx="6767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ПР-11 в 2017 г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"/>
          <p:cNvSpPr/>
          <p:nvPr/>
        </p:nvSpPr>
        <p:spPr>
          <a:xfrm>
            <a:off x="539640" y="1484280"/>
            <a:ext cx="81378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Arial"/>
              </a:rPr>
              <a:t>Распоряжение Рособрнадзора №2322-05 от 30.08.2016 г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Arial"/>
              </a:rPr>
              <a:t>«Об утверждении графиков проведения мероприятий, направленных на исследование качества образования на 2016-2017 годы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664d"/>
                </a:solidFill>
                <a:latin typeface="Arial"/>
              </a:rPr>
              <a:t>График проведения всероссийских проверочных работ в 11 класс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664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476360" y="3789360"/>
          <a:ext cx="6095880" cy="222408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4d"/>
                          </a:solidFill>
                          <a:latin typeface="Arial"/>
                        </a:rPr>
                        <a:t>Предмет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4d"/>
                          </a:solidFill>
                          <a:latin typeface="Arial"/>
                        </a:rPr>
                        <a:t>Дата провед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ик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f4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апреля 2017 г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f4ec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ми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a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 апреля 2017 г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af6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f4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мая 2017 г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f4ec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граф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a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мая 2017 г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af6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р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f4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мая  2017 г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f4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763280" y="333000"/>
            <a:ext cx="68533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цедура подготовки вариантов ВПР-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6840" y="1773000"/>
            <a:ext cx="799452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664d"/>
                </a:solidFill>
                <a:latin typeface="Arial"/>
              </a:rPr>
              <a:t>Разработка проекта кодификатора, описания всероссийской проверочной работы по предмету и образца вариант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664d"/>
                </a:solidFill>
                <a:latin typeface="Arial"/>
              </a:rPr>
              <a:t>Обсуждение в фокус-группа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664d"/>
                </a:solidFill>
                <a:latin typeface="Arial"/>
              </a:rPr>
              <a:t>Обсуждение в профессиональном сообществе, экспертиза документов, регламентирующих разработку ВП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664d"/>
                </a:solidFill>
                <a:latin typeface="Arial"/>
              </a:rPr>
              <a:t>Публикация описаний, кодификаторов и образцов вариант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664d"/>
                </a:solidFill>
                <a:latin typeface="Arial"/>
              </a:rPr>
              <a:t>Разработка вариантов ВПР по 5 предметам, проведение содержательных и тестологических экспертиз. Подготовка оригинал-макет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763280" y="333000"/>
            <a:ext cx="68533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подходы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 разработке ВПР-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6840" y="1773000"/>
            <a:ext cx="799452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algn="just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1792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1. Назначение ВП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1792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ВПР-11 предназначена для итоговой оценки учебной подготовки выпускников, изучавших школьный курс данного предмета  </a:t>
            </a: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на базовом уровне</a:t>
            </a: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1792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2. Документ, определяющий содержание ВП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1792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Федеральный компонент государственного образовательного стандарта среднего (полного) общего образования по предмету, базовый уровень (приказ Минобразования России от 05.03.2004 № 1089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1792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3. Время выполнения работы – 90 мин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1792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763280" y="333000"/>
            <a:ext cx="68533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подходы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 разработке ВПР-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6840" y="1773000"/>
            <a:ext cx="799452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433440" algn="just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27000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4. Уровни сложности задан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433440" algn="just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27000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базовый уровень  (порядка 60% от максимального балла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433440" algn="just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27000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повышенный уровень (порядка 40% от максимального балл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433440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27000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5. Формы заданий – с кратким и развернутым ответом </a:t>
            </a: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(используются модели, не предназначенные для бланковой технологии). Использование контекстных заданий и дополнительных справочных  материа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433440" algn="just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27000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6.  Содержание </a:t>
            </a: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– наиболее значимые элементы содержания всех разделов предметного кур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433440" algn="just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27000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7. Количество заданий </a:t>
            </a: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– до 20 заданий в вариан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433440" algn="just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27000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332000" y="333000"/>
            <a:ext cx="7213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стор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68000" y="1412640"/>
            <a:ext cx="79945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342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Проверка групп умен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овладение школьниками базовыми историческими знания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опыт применения историко-культурного подхода к оценке социальных явлен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умение применять исторические знания для осмысления сущности общественных явлен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умение искать, анализировать, сопоставлять и оценивать содержащуюся в различных источниках информацию о событиях и явлениях прошлого</a:t>
            </a:r>
            <a:r>
              <a:rPr b="0" lang="ru-RU" sz="16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85800" indent="-342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Содержани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15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</a:rPr>
              <a:t>история России с древнейших времён до наших дней и истории родного края. </a:t>
            </a: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Calibri"/>
              </a:rPr>
              <a:t>(Знания по всеобщей истории проверяются в работе только в контексте истории Росси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Calibri"/>
              </a:rPr>
              <a:t>знание учащимися истории, культуры родного кр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342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5024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тория и культура родного края.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меры за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2" descr=""/>
          <p:cNvPicPr/>
          <p:nvPr/>
        </p:nvPicPr>
        <p:blipFill>
          <a:blip r:embed="rId1"/>
          <a:stretch/>
        </p:blipFill>
        <p:spPr>
          <a:xfrm>
            <a:off x="1979640" y="1413000"/>
            <a:ext cx="5472000" cy="533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5024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ариативность заданий. Примеры за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2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6875280" cy="545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332000" y="333000"/>
            <a:ext cx="7213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из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68000" y="1483920"/>
            <a:ext cx="7994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Arial"/>
              </a:rPr>
              <a:t>Пять групп  заданий, оценивающих ум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Arial"/>
              </a:rPr>
              <a:t>Понимать смысл изученных физических понятий, величин, законов, мод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Arial"/>
              </a:rPr>
              <a:t>Описывать и объяснять физические явления и свойства т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Arial"/>
              </a:rPr>
              <a:t>Объяснять устройство и принцип действия технических объек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Arial"/>
              </a:rPr>
              <a:t>Делать выводы на основе экспериментальных данных, планировать исслед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Arial"/>
              </a:rPr>
              <a:t>Воспринимать и оценивать информацию физического содержания (работа с тексто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Arial"/>
              </a:rPr>
              <a:t>Содержа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Arial"/>
              </a:rPr>
              <a:t>Проверка фундаментальных принципов и законов, наиболее значимых элементов содержания из всех разделов курса физ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5T14:40:30Z</dcterms:created>
  <dc:creator>user</dc:creator>
  <dc:description/>
  <dc:language>en-US</dc:language>
  <cp:lastModifiedBy>марина</cp:lastModifiedBy>
  <dcterms:modified xsi:type="dcterms:W3CDTF">2016-10-28T05:16:37Z</dcterms:modified>
  <cp:revision>527</cp:revision>
  <dc:subject/>
  <dc:title>Презентация PowerPoint</dc:title>
</cp:coreProperties>
</file>